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1C47-1AAD-466B-B9B0-2AEE9754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22E8-57ED-4A50-9325-2A0F0585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9D8F-6925-415C-A3FF-432D918C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8FA-12EA-4E08-B13A-E222F669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7C58-3261-4A48-9882-B87DA8B6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E62-6268-418A-B239-B565B501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76BA-356E-4290-9872-7C10BDF9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2DF-43AE-46E4-A978-EA3A97B7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356-DEC2-44E3-BCF5-8FBBD0F6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118-01ED-481F-A556-12A944AD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8B5-6EE5-4F18-BBAF-2D3771BE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536F-7C8A-4BA7-8915-3D479ECA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0BC8-413F-4405-AF83-4E0C9EE37E8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xxx.2009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0005.20091112.p4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09-12-29T08:31:51Z</dcterms:modified>
  <cp:revision>85</cp:revision>
  <dc:subject/>
  <dc:title>投影片 1</dc:title>
</cp:coreProperties>
</file>